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0CC-9372-4ADC-9DDD-AC63DEFE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BE7-2D84-4864-AAB8-16EF7F86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690-D195-4888-A830-6E412187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0EE-6819-4032-B496-4A6415B3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5E31-0AA6-4C9D-BD46-088AA542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C9B5-466A-4CB0-A482-67893F3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C206-66E1-4B48-B11A-7B7809D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96E9-6FB2-48FD-9AD2-96DBCF3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E5C4-DAD9-4CF8-BFAE-D15F9D0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C041-41F8-468B-B60D-F04393B2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A0E-76BC-42BC-B7AA-75F23F6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D1E-E1A8-4EAD-B03D-0617D35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9D3-00A6-4D64-990C-BC19542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FAC-A1D3-4854-80F7-E6A210F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B29-3252-454E-99A7-FB5356E2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391C-3538-478E-AAF0-12350703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068F-4C81-4C3C-8777-0D7E4B30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4BF-9471-41E1-ABFA-638F9C8F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90F-30B7-4423-AC4F-34D90A2F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2F2-CB5E-4E2A-A6B8-6A58E0A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B51-62B0-4EF5-9198-0FB5448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2CA-6616-42D7-B760-5C3C3C1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9E2-CD47-47B9-8EE5-DDEDC149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9EA-5589-4295-B2A7-698245B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6688-7022-41D8-BAC5-7B1181473675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526-B93C-456B-81C3-DCF25F5781F9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011-2E69-49D5-9A80-86A25860D96F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96B4-AFC7-41C1-AF36-166B8F74F12D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nterest.com/pin/create/button/?url=http://hdwallpaper2013.com/flower/flower-spring-2013-hd-wallpaper.html/attachment/flower-spring-2013-hd-wallpaper&amp;media=http://hdwallpaper2013.com/wp-content/uploads/2013/02/Flower-Spring-2013-HD-Wallpaper.jpg&amp;description=Flower%20Spring%202013%20HD%20Wallpape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Flower Spring 2013 HD 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733920"/>
            <a:ext cx="3809880" cy="2139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1600200" y="171936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6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ring in China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5812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4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37893"/>
          <p:cNvSpPr/>
          <p:nvPr/>
        </p:nvSpPr>
        <p:spPr>
          <a:xfrm>
            <a:off x="1219320" y="1447920"/>
            <a:ext cx="76960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翻译下列句子，每空一词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天气不是太热也不太冷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weather is not ____ ____ ____ too co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切看起来都是新鲜的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rything _____ 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拿大的春天什么样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 spring _____ in Canada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下周要去摘草莓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re going to ______ ____________ next wee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37896"/>
          <p:cNvSpPr/>
          <p:nvPr/>
        </p:nvSpPr>
        <p:spPr>
          <a:xfrm>
            <a:off x="4862520" y="25909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898"/>
          <p:cNvSpPr/>
          <p:nvPr/>
        </p:nvSpPr>
        <p:spPr>
          <a:xfrm>
            <a:off x="3956040" y="358128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s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矩形 37905"/>
          <p:cNvSpPr/>
          <p:nvPr/>
        </p:nvSpPr>
        <p:spPr>
          <a:xfrm>
            <a:off x="4176720" y="2590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矩形 37906"/>
          <p:cNvSpPr/>
          <p:nvPr/>
        </p:nvSpPr>
        <p:spPr>
          <a:xfrm>
            <a:off x="3100320" y="3581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矩形 37907"/>
          <p:cNvSpPr/>
          <p:nvPr/>
        </p:nvSpPr>
        <p:spPr>
          <a:xfrm>
            <a:off x="2666880" y="4572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文本框 37908"/>
          <p:cNvSpPr/>
          <p:nvPr/>
        </p:nvSpPr>
        <p:spPr>
          <a:xfrm>
            <a:off x="4295880" y="457200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矩形 37909"/>
          <p:cNvSpPr/>
          <p:nvPr/>
        </p:nvSpPr>
        <p:spPr>
          <a:xfrm>
            <a:off x="3886200" y="55069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矩形 37911"/>
          <p:cNvSpPr/>
          <p:nvPr/>
        </p:nvSpPr>
        <p:spPr>
          <a:xfrm>
            <a:off x="4800600" y="550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awberri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文本框 37912"/>
          <p:cNvSpPr/>
          <p:nvPr/>
        </p:nvSpPr>
        <p:spPr>
          <a:xfrm>
            <a:off x="5548320" y="259092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6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8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6" name="文本框 33897"/>
          <p:cNvSpPr/>
          <p:nvPr/>
        </p:nvSpPr>
        <p:spPr>
          <a:xfrm>
            <a:off x="838080" y="2851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们那里的春天是什么样子的呢？你喜欢在春天做什么？请写出来和大家探讨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5018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It never rains but it pour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不鸣则已，一鸣惊人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8" name="图片 50186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5018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510720" y="16765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25"/>
          <p:cNvSpPr/>
          <p:nvPr/>
        </p:nvSpPr>
        <p:spPr>
          <a:xfrm>
            <a:off x="1546200" y="2636280"/>
            <a:ext cx="62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weather like in spring in China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can you do in spring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6147"/>
          <p:cNvSpPr/>
          <p:nvPr/>
        </p:nvSpPr>
        <p:spPr>
          <a:xfrm>
            <a:off x="1676520" y="5486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awber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6157" descr="u=3406090061,2693772619&amp;fm=23&amp;gp=0"/>
          <p:cNvPicPr/>
          <p:nvPr/>
        </p:nvPicPr>
        <p:blipFill>
          <a:blip r:embed="rId1"/>
          <a:srcRect l="0" t="0" r="0" b="4168"/>
          <a:stretch/>
        </p:blipFill>
        <p:spPr>
          <a:xfrm>
            <a:off x="1371600" y="1752480"/>
            <a:ext cx="2435400" cy="3505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159" descr="u=2562915084,3001863147&amp;fm=23&amp;gp=0"/>
          <p:cNvPicPr/>
          <p:nvPr/>
        </p:nvPicPr>
        <p:blipFill>
          <a:blip r:embed="rId2"/>
          <a:srcRect l="7743" t="0" r="0" b="3454"/>
          <a:stretch/>
        </p:blipFill>
        <p:spPr>
          <a:xfrm>
            <a:off x="4876920" y="2209680"/>
            <a:ext cx="272412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6160"/>
          <p:cNvSpPr/>
          <p:nvPr/>
        </p:nvSpPr>
        <p:spPr>
          <a:xfrm>
            <a:off x="5105520" y="54100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awberri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9940" descr="u=990141426,936822398&amp;fm=23&amp;gp=0"/>
          <p:cNvPicPr/>
          <p:nvPr/>
        </p:nvPicPr>
        <p:blipFill>
          <a:blip r:embed="rId1"/>
          <a:srcRect l="0" t="0" r="0" b="4393"/>
          <a:stretch/>
        </p:blipFill>
        <p:spPr>
          <a:xfrm>
            <a:off x="609480" y="99072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39941"/>
          <p:cNvSpPr/>
          <p:nvPr/>
        </p:nvSpPr>
        <p:spPr>
          <a:xfrm>
            <a:off x="5943600" y="228600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seaso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say something about i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0965"/>
          <p:cNvSpPr/>
          <p:nvPr/>
        </p:nvSpPr>
        <p:spPr>
          <a:xfrm>
            <a:off x="1731600" y="539892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矩形 40966"/>
          <p:cNvSpPr/>
          <p:nvPr/>
        </p:nvSpPr>
        <p:spPr>
          <a:xfrm>
            <a:off x="2972160" y="53323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ving a picni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7" name="图片 40968" descr="u=2604673444,1713810655&amp;fm=52&amp;gp=0"/>
          <p:cNvPicPr/>
          <p:nvPr/>
        </p:nvPicPr>
        <p:blipFill>
          <a:blip r:embed="rId1"/>
          <a:stretch/>
        </p:blipFill>
        <p:spPr>
          <a:xfrm>
            <a:off x="1447920" y="1295280"/>
            <a:ext cx="6400800" cy="37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1988" descr="u=3392895001,3603679128&amp;fm=23&amp;gp=0"/>
          <p:cNvPicPr/>
          <p:nvPr/>
        </p:nvPicPr>
        <p:blipFill>
          <a:blip r:embed="rId1"/>
          <a:stretch/>
        </p:blipFill>
        <p:spPr>
          <a:xfrm>
            <a:off x="1676520" y="990720"/>
            <a:ext cx="571500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矩形 41991"/>
          <p:cNvSpPr/>
          <p:nvPr/>
        </p:nvSpPr>
        <p:spPr>
          <a:xfrm>
            <a:off x="1730520" y="538812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_____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41992"/>
          <p:cNvSpPr/>
          <p:nvPr/>
        </p:nvSpPr>
        <p:spPr>
          <a:xfrm>
            <a:off x="2514600" y="5310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king strawberri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38915"/>
          <p:cNvSpPr/>
          <p:nvPr/>
        </p:nvSpPr>
        <p:spPr>
          <a:xfrm>
            <a:off x="1066680" y="1066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38916"/>
          <p:cNvSpPr/>
          <p:nvPr/>
        </p:nvSpPr>
        <p:spPr>
          <a:xfrm>
            <a:off x="1219320" y="1828800"/>
            <a:ext cx="6858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1. It’s summer in China now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2. The temperature is co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3. Li Ming is going to the country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17"/>
          <p:cNvSpPr/>
          <p:nvPr/>
        </p:nvSpPr>
        <p:spPr>
          <a:xfrm>
            <a:off x="1500120" y="20574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18"/>
          <p:cNvSpPr/>
          <p:nvPr/>
        </p:nvSpPr>
        <p:spPr>
          <a:xfrm>
            <a:off x="1424160" y="274320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19"/>
          <p:cNvSpPr/>
          <p:nvPr/>
        </p:nvSpPr>
        <p:spPr>
          <a:xfrm>
            <a:off x="1447920" y="335268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图片 38921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5361"/>
          <p:cNvSpPr/>
          <p:nvPr/>
        </p:nvSpPr>
        <p:spPr>
          <a:xfrm>
            <a:off x="914400" y="13716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rain and sun make all the tree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d grass green agai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雨水和太阳使所有的树和草又绿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5362"/>
          <p:cNvSpPr/>
          <p:nvPr/>
        </p:nvSpPr>
        <p:spPr>
          <a:xfrm>
            <a:off x="1219320" y="30481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…gre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绿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常跟形容词作宾语补足语，也可跟动词原形或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work makes me tired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工作让我觉着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boy made the baby cry again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男孩又把那个婴儿弄哭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0" name="图片 15370" descr="3"/>
          <p:cNvPicPr/>
          <p:nvPr/>
        </p:nvPicPr>
        <p:blipFill>
          <a:blip r:embed="rId1"/>
          <a:stretch/>
        </p:blipFill>
        <p:spPr>
          <a:xfrm>
            <a:off x="670572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6385"/>
          <p:cNvSpPr/>
          <p:nvPr/>
        </p:nvSpPr>
        <p:spPr>
          <a:xfrm>
            <a:off x="914400" y="91440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me show you spring in China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向你展示中国的春天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文本框 16386"/>
          <p:cNvSpPr/>
          <p:nvPr/>
        </p:nvSpPr>
        <p:spPr>
          <a:xfrm>
            <a:off x="1219320" y="1990800"/>
            <a:ext cx="761976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sb.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某人做某事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, make, hav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跟动词原形作宾语补足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vid has his son stand for two hou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卫让他的儿子站了两个小时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 sb. sth.=show sth. to sb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某人展示某物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 your photos to me, pleas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向我展示一下你的照片吧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09:01Z</dcterms:created>
  <dc:creator/>
  <dc:description/>
  <dc:language>en-US</dc:language>
  <cp:lastModifiedBy>Administrator</cp:lastModifiedBy>
  <dcterms:modified xsi:type="dcterms:W3CDTF">2019-01-02T01:16:15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